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ct" ContentType="image/x-pict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519-9FB7-42E8-AE26-507C48E8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3FF-4418-48BA-9385-CEF73428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D9F-DECD-43E4-99EB-AFA9BB18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EDB-6000-46B6-AAE7-94D4A32E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F58-B259-49C8-B70D-5AB8BD8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D70-8BD2-4EB0-874F-398D9E4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D92-5533-4119-A0B4-71BE751A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73E-D9EF-4C5A-B3D5-5C759563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B79-5773-463A-B57A-2715F4F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814-9431-45DD-80C6-8C266F2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E49-2D29-4B47-BA05-35BD8F8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41E-713A-4A5D-A39B-B84E9CDC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30DF-3AE6-4108-A87A-E36B8131CF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Ecology:  Structure, Species Interactions, Succession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Mutu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3240" y="1557360"/>
            <a:ext cx="877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roductive mutualism:  pol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520" y="236700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 mutu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520" y="3178080"/>
            <a:ext cx="7868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/protection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76520" y="4146480"/>
            <a:ext cx="5790960" cy="2332080"/>
            <a:chOff x="1676520" y="4146480"/>
            <a:chExt cx="5790960" cy="2332080"/>
          </a:xfrm>
        </p:grpSpPr>
        <p:sp>
          <p:nvSpPr>
            <p:cNvPr id="172" name=""/>
            <p:cNvSpPr/>
            <p:nvPr/>
          </p:nvSpPr>
          <p:spPr>
            <a:xfrm>
              <a:off x="1676520" y="4146480"/>
              <a:ext cx="5790960" cy="23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757160" y="4186440"/>
              <a:ext cx="3292200" cy="22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5041800" y="4179960"/>
              <a:ext cx="239508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3, p. 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Commens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040" y="1747800"/>
            <a:ext cx="5239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rect:  i.e., small plants growing in shade of larg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6040" y="3965400"/>
            <a:ext cx="5067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rect:  i.e., epiphytes, remo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14640" y="6097680"/>
            <a:ext cx="2455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8-14 p. 1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Slide17" descr=""/>
          <p:cNvPicPr/>
          <p:nvPr/>
        </p:nvPicPr>
        <p:blipFill>
          <a:blip r:embed="rId1"/>
          <a:srcRect l="22224" t="677" r="22756" b="1391"/>
          <a:stretch/>
        </p:blipFill>
        <p:spPr>
          <a:xfrm>
            <a:off x="5370480" y="1555920"/>
            <a:ext cx="3773520" cy="50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logical Succession:  Communities in Trans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3240" y="186372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240" y="2873520"/>
            <a:ext cx="527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2520" y="388296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ioneer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2880" y="4892760"/>
            <a:ext cx="496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ccessional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231920"/>
            <a:ext cx="9144000" cy="56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4840" y="1244520"/>
            <a:ext cx="9060840" cy="5543280"/>
            <a:chOff x="24840" y="1244520"/>
            <a:chExt cx="9060840" cy="55432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52640" y="1244520"/>
              <a:ext cx="8867520" cy="54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flipV="1">
              <a:off x="967680" y="5658840"/>
              <a:ext cx="7998120" cy="11289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360" y="622656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11920" y="5601960"/>
              <a:ext cx="11224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 her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shru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61280" y="5543280"/>
              <a:ext cx="1003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th 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35840" y="5183280"/>
              <a:ext cx="1235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ck pin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ack spruc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as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86200" y="4840200"/>
              <a:ext cx="159948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lsam f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per birch,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ite spru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max commun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0" y="4038840"/>
              <a:ext cx="86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xpos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ock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4200" y="4038840"/>
              <a:ext cx="1131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iche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nd moss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8.15, p. 1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01680" y="1284120"/>
            <a:ext cx="8539200" cy="5469120"/>
            <a:chOff x="301680" y="1284120"/>
            <a:chExt cx="8539200" cy="5469120"/>
          </a:xfrm>
        </p:grpSpPr>
        <p:sp>
          <p:nvSpPr>
            <p:cNvPr id="205" name=""/>
            <p:cNvSpPr/>
            <p:nvPr/>
          </p:nvSpPr>
          <p:spPr>
            <a:xfrm>
              <a:off x="301680" y="1284120"/>
              <a:ext cx="8539200" cy="546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76200" y="1332000"/>
              <a:ext cx="8388360" cy="5368320"/>
              <a:chOff x="376200" y="1332000"/>
              <a:chExt cx="8388360" cy="536832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6200" y="1332000"/>
                <a:ext cx="8388360" cy="526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flipV="1">
                <a:off x="1303920" y="5497560"/>
                <a:ext cx="7446960" cy="120276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42360" y="610236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03560" y="5841000"/>
                <a:ext cx="73548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nu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ee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157120" y="5565240"/>
                <a:ext cx="1093680" cy="6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enn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eeds an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ass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72920" y="5553360"/>
                <a:ext cx="7462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rub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23120" y="5348880"/>
                <a:ext cx="15811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ng pine fo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83240" y="5037120"/>
                <a:ext cx="2198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ture oak-hickory fo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71946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8.16, p. 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ccession and Wildlif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160" y="2251080"/>
            <a:ext cx="9066240" cy="3699000"/>
            <a:chOff x="38160" y="2251080"/>
            <a:chExt cx="9066240" cy="3699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38160" y="2251080"/>
              <a:ext cx="197496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397240" y="2251080"/>
              <a:ext cx="197460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756320" y="2251080"/>
              <a:ext cx="197928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7120080" y="2252520"/>
              <a:ext cx="19843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905120" y="3181320"/>
              <a:ext cx="609480" cy="495360"/>
            </a:xfrm>
            <a:prstGeom prst="rightArrow">
              <a:avLst>
                <a:gd name="adj1" fmla="val 50000"/>
                <a:gd name="adj2" fmla="val 30759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29280" y="3181320"/>
              <a:ext cx="609480" cy="495360"/>
            </a:xfrm>
            <a:prstGeom prst="rightArrow">
              <a:avLst>
                <a:gd name="adj1" fmla="val 50000"/>
                <a:gd name="adj2" fmla="val 30759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3080" y="3181320"/>
              <a:ext cx="609840" cy="495360"/>
            </a:xfrm>
            <a:prstGeom prst="rightArrow">
              <a:avLst>
                <a:gd name="adj1" fmla="val 50000"/>
                <a:gd name="adj2" fmla="val 30778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360" y="5454720"/>
              <a:ext cx="609840" cy="495360"/>
            </a:xfrm>
            <a:prstGeom prst="rightArrow">
              <a:avLst>
                <a:gd name="adj1" fmla="val 50000"/>
                <a:gd name="adj2" fmla="val 30778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040" y="2425680"/>
              <a:ext cx="18068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arly Success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ab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u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ingneck pheas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obo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ocket gop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1920" y="2425680"/>
              <a:ext cx="16056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dsuccess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uffled gro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nowshoe 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bi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78360" y="2425680"/>
              <a:ext cx="17352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te Success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r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ammond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lycat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ay squirr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7520" y="2425680"/>
              <a:ext cx="15494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lder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izzly be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rib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ighorn she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lifornia con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eat horned ow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160" y="5549760"/>
              <a:ext cx="20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ological succ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7, p. 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Rate of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5760" y="6135840"/>
            <a:ext cx="427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Table 8-1 p. 1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800" y="1685880"/>
            <a:ext cx="311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ili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3240" y="3200400"/>
            <a:ext cx="28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440" y="47149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Stability and Sustainabi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5600" y="3440160"/>
            <a:ext cx="427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Table 8-2 p. 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8400" y="1330200"/>
            <a:ext cx="328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urb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9480" y="2190600"/>
            <a:ext cx="479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7320" y="3052800"/>
            <a:ext cx="212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8040" y="391464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t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960" y="47768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il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960" y="5638680"/>
            <a:ext cx="580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5960" y="1432080"/>
            <a:ext cx="535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y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720" y="251316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les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2720" y="359568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inte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4160" y="4676760"/>
            <a:ext cx="5540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5759280"/>
            <a:ext cx="551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bility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26280" y="1500120"/>
            <a:ext cx="9131760" cy="5218200"/>
            <a:chOff x="-26280" y="1500120"/>
            <a:chExt cx="9131760" cy="5218200"/>
          </a:xfrm>
        </p:grpSpPr>
        <p:sp>
          <p:nvSpPr>
            <p:cNvPr id="55" name=""/>
            <p:cNvSpPr/>
            <p:nvPr/>
          </p:nvSpPr>
          <p:spPr>
            <a:xfrm>
              <a:off x="38160" y="1503360"/>
              <a:ext cx="2655720" cy="519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-26280" y="1500120"/>
              <a:ext cx="9131760" cy="5218200"/>
              <a:chOff x="-26280" y="1500120"/>
              <a:chExt cx="9131760" cy="5218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2240" y="1500120"/>
                <a:ext cx="8373240" cy="521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612720" y="60235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6000" y="6023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0200" y="47584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70800" y="1828440"/>
                <a:ext cx="289080" cy="4390920"/>
                <a:chOff x="370800" y="1828440"/>
                <a:chExt cx="289080" cy="43909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15160" y="1828440"/>
                  <a:ext cx="0" cy="437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70800" y="6219360"/>
                  <a:ext cx="2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70800" y="1828440"/>
                  <a:ext cx="2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15160" y="490536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76560" y="401760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15160" y="349452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15160" y="2059200"/>
                  <a:ext cx="138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40320" y="3870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19560" y="3335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9560" y="19119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-26280" y="16930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97640" y="6246720"/>
                <a:ext cx="92736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opic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ain 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3120" y="6246720"/>
                <a:ext cx="9853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ifero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40720" y="6246720"/>
                <a:ext cx="9608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ciduo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60680" y="6246720"/>
                <a:ext cx="612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ho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58880" y="6246720"/>
                <a:ext cx="903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ll-gr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air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49880" y="6246720"/>
                <a:ext cx="103716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hort-gr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air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224920" y="6246720"/>
                <a:ext cx="6562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se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cru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39880" y="6246720"/>
                <a:ext cx="612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ho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cru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Structure:  Appearance and Species 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5080" y="1617840"/>
            <a:ext cx="35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24720" y="2509920"/>
            <a:ext cx="42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5440" y="340200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rich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26520" y="4294080"/>
            <a:ext cx="39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71640" y="5186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g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21120" y="2243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8.2, p. 1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560" y="1643040"/>
            <a:ext cx="249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920" y="3056040"/>
            <a:ext cx="195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80" y="446868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80" y="5883120"/>
            <a:ext cx="727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ry of island biogeogra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94120" y="1477800"/>
            <a:ext cx="6090120" cy="3383280"/>
            <a:chOff x="2994120" y="1477800"/>
            <a:chExt cx="6090120" cy="33832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532320" y="1477800"/>
              <a:ext cx="190476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110280" y="1498680"/>
              <a:ext cx="29653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16200000">
              <a:off x="2416320" y="2604240"/>
              <a:ext cx="14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pecies diver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6400" y="28656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98320" y="405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6400" y="16876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2400" y="42433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90˚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11960" y="423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70880" y="423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69760" y="4237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09160" y="424332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0˚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4320" y="423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7880" y="458460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titu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9520" y="16876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2920" y="28749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9600" y="40543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50360" y="42418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˚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36240" y="423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1640" y="423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69760" y="423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18200" y="4235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36280" y="453240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titu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618360" y="168444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04600" y="1704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5043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3, p. 1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ral Types of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424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4960" y="2901960"/>
            <a:ext cx="65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native (exotic or ali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240" y="42242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4600" y="5546880"/>
            <a:ext cx="26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Compet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5360" y="1482840"/>
            <a:ext cx="60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a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720" y="2371680"/>
            <a:ext cx="603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720" y="3260880"/>
            <a:ext cx="600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ference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4280" y="4149720"/>
            <a:ext cx="6008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loitation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5000" y="5038560"/>
            <a:ext cx="748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etitive exclusion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280" y="5927760"/>
            <a:ext cx="5357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part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Resource Partitioning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50920" y="1260360"/>
            <a:ext cx="5042160" cy="5599800"/>
            <a:chOff x="2050920" y="1260360"/>
            <a:chExt cx="5042160" cy="5599800"/>
          </a:xfrm>
        </p:grpSpPr>
        <p:grpSp>
          <p:nvGrpSpPr>
            <p:cNvPr id="138" name=""/>
            <p:cNvGrpSpPr/>
            <p:nvPr/>
          </p:nvGrpSpPr>
          <p:grpSpPr>
            <a:xfrm>
              <a:off x="2633760" y="1260360"/>
              <a:ext cx="4459320" cy="5225760"/>
              <a:chOff x="2633760" y="1260360"/>
              <a:chExt cx="4459320" cy="522576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33760" y="1260360"/>
                <a:ext cx="4459320" cy="23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3760" y="4129920"/>
                <a:ext cx="4459320" cy="235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 rot="16200000">
              <a:off x="1178280" y="228924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umber of individu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1242000" y="515160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umber of individu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0040" y="6553080"/>
              <a:ext cx="134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 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0040" y="3700440"/>
              <a:ext cx="134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 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75680" y="25542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1600" y="25542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38200" y="2994120"/>
              <a:ext cx="1329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iche overl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9040" y="553896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1720" y="553896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i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999120" y="6261120"/>
            <a:ext cx="214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0, p. 1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 to Fig. 8.9, p. 183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8.11, p. 1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Pre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200" y="16351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200" y="2868480"/>
            <a:ext cx="164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560" y="410220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560" y="5337000"/>
            <a:ext cx="498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18760" y="6222960"/>
            <a:ext cx="450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8-12 p. 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bd07333_" descr=""/>
          <p:cNvPicPr/>
          <p:nvPr/>
        </p:nvPicPr>
        <p:blipFill>
          <a:blip r:embed="rId1"/>
          <a:stretch/>
        </p:blipFill>
        <p:spPr>
          <a:xfrm>
            <a:off x="5045040" y="1660680"/>
            <a:ext cx="3624120" cy="368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Parasitism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720" y="1841400"/>
            <a:ext cx="240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a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" y="3135240"/>
            <a:ext cx="164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080" y="4430880"/>
            <a:ext cx="373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opara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720" y="5726160"/>
            <a:ext cx="356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topara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d10856_" descr=""/>
          <p:cNvPicPr/>
          <p:nvPr/>
        </p:nvPicPr>
        <p:blipFill>
          <a:blip r:embed="rId1"/>
          <a:stretch/>
        </p:blipFill>
        <p:spPr>
          <a:xfrm>
            <a:off x="4276800" y="2216160"/>
            <a:ext cx="4572000" cy="289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Christine Pramuk</cp:lastModifiedBy>
  <dcterms:modified xsi:type="dcterms:W3CDTF">2001-07-26T22:47:31Z</dcterms:modified>
  <cp:revision>27</cp:revision>
  <dc:subject/>
  <dc:title>PowerPoint Presentation</dc:title>
</cp:coreProperties>
</file>